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2C7-7873-45D4-8D64-16FA6A13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CD6-70C2-4497-9B45-70312C1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6AE-C34F-455E-AC70-4232AC4E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BB0-A883-44E6-97E8-CC97A26F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AFC9-4499-421B-9647-598154B1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C99-8FEF-4091-BF12-A471BF7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254-975B-432E-B459-DF7CCB4D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1E5-3460-40C0-99EA-3AC3D95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0A35-EBF8-4EFF-9505-EC67BC7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F8CC-77C8-4161-9663-643A27E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EE5-EDF2-4C11-A8FD-FEC13E9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4EF-50F0-4513-833C-D5EF0AC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54D-0381-472C-A1D7-B6A1DE7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0D4-127C-4AD8-805C-B232E16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11FC-D8C8-4106-B83B-1EAEFB9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B80B-5B99-45EE-BA23-C8FD3C33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4B7-0C4B-4AE1-BCBE-42404358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D50-7B37-4539-B365-646FF498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B5C-6755-43E0-B7FD-DEB54274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AF9-C5E4-4E52-B165-2BB4659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846-B550-44AF-B308-AC9D8EF6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2A0-77FA-4367-8338-98F2938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D15-3D34-4EF2-B664-2BAFCF0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3C4-3024-41E2-935B-80EA8AE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827-1D16-45BE-A81A-B2FAFCA74A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22EE-2AE5-4FE7-8C90-7B8B9C0398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561440" cy="2520720"/>
          </a:xfrm>
          <a:prstGeom prst="rect">
            <a:avLst/>
          </a:prstGeom>
          <a:blipFill rotWithShape="0">
            <a:blip r:embed="rId1"/>
            <a:stretch/>
          </a:blipFill>
          <a:ln cap="rnd" w="76320">
            <a:solidFill>
              <a:srgbClr val="b4ef7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99"/>
                </a:solidFill>
                <a:latin typeface="Century Gothic"/>
              </a:rPr>
              <a:t>    </a:t>
            </a: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« Об итогах работы за 200</a:t>
            </a:r>
            <a:r>
              <a:rPr b="1" i="1" lang="en-US" sz="3600" spc="-1" strike="noStrike">
                <a:solidFill>
                  <a:srgbClr val="ffff00"/>
                </a:solidFill>
                <a:latin typeface="Century Gothic"/>
              </a:rPr>
              <a:t>7</a:t>
            </a: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г.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и состоянии качества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лекарственных средств 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i="1" lang="ru-RU" sz="3600" spc="-1" strike="noStrike">
                <a:solidFill>
                  <a:srgbClr val="ffff00"/>
                </a:solidFill>
                <a:latin typeface="Century Gothic"/>
              </a:rPr>
              <a:t>в Республике Татарстан »</a:t>
            </a:r>
            <a:endParaRPr b="1" lang="en-US" sz="36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384120"/>
            <a:ext cx="71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6a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44800" y="384120"/>
            <a:ext cx="9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arendon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365720"/>
            <a:ext cx="288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8f6a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4724280"/>
            <a:ext cx="7131240" cy="1709640"/>
          </a:xfrm>
          <a:prstGeom prst="rect">
            <a:avLst/>
          </a:prstGeom>
          <a:gradFill rotWithShape="0">
            <a:gsLst>
              <a:gs pos="0">
                <a:srgbClr val="273d1b"/>
              </a:gs>
              <a:gs pos="100000">
                <a:srgbClr val="5586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entury Gothic"/>
              </a:rPr>
              <a:t>Государственное учре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Центр контроля качества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и сертификации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лекарственных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Республики Татарстан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258444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2637000"/>
            <a:ext cx="324180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Century Gothic"/>
              </a:rPr>
              <a:t>Количество испытаний лекарственных средств, в результате которых выявлен брак (2007г.)</a:t>
            </a:r>
            <a:endParaRPr b="1" lang="en-US" sz="26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00000" y="1341360"/>
          <a:ext cx="69976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69976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232520" y="1705320"/>
            <a:ext cx="134712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1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73600" y="2421000"/>
            <a:ext cx="118692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6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0160" y="1628640"/>
            <a:ext cx="134712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1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720" y="234936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d99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720" y="472428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d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20" y="350028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d99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dd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23200" y="5445000"/>
            <a:ext cx="2979000" cy="1031400"/>
          </a:xfrm>
          <a:prstGeom prst="rect">
            <a:avLst/>
          </a:prstGeom>
          <a:solidFill>
            <a:srgbClr val="b4e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Испытания Л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согласно письм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Росздравнадз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373720"/>
            <a:ext cx="2592360" cy="1248480"/>
          </a:xfrm>
          <a:prstGeom prst="rect">
            <a:avLst/>
          </a:prstGeom>
          <a:solidFill>
            <a:srgbClr val="b4e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Испытания ЛС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направлениям отд. мониторинга качества Л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03600" y="5661000"/>
            <a:ext cx="2185200" cy="699840"/>
          </a:xfrm>
          <a:prstGeom prst="rect">
            <a:avLst/>
          </a:prstGeom>
          <a:solidFill>
            <a:srgbClr val="b4e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Испы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2a00"/>
                </a:solidFill>
                <a:latin typeface="Arial"/>
              </a:rPr>
              <a:t>субстан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92040" y="3657960"/>
            <a:ext cx="126000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28440">
            <a:solidFill>
              <a:srgbClr val="37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4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6600" y="3573360"/>
            <a:ext cx="118692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28440">
            <a:solidFill>
              <a:srgbClr val="37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1680" y="4653000"/>
            <a:ext cx="1027080" cy="429120"/>
          </a:xfrm>
          <a:prstGeom prst="rect">
            <a:avLst/>
          </a:prstGeom>
          <a:solidFill>
            <a:srgbClr val="ffffff">
              <a:alpha val="95000"/>
            </a:srgbClr>
          </a:solidFill>
          <a:ln w="28440">
            <a:solidFill>
              <a:srgbClr val="37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2637000"/>
            <a:ext cx="1707840" cy="1240920"/>
          </a:xfrm>
          <a:prstGeom prst="rect">
            <a:avLst/>
          </a:prstGeom>
          <a:solidFill>
            <a:srgbClr val="37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ыт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96360" y="4437000"/>
            <a:ext cx="1079280" cy="761760"/>
          </a:xfrm>
          <a:prstGeom prst="rect">
            <a:avLst/>
          </a:prstGeom>
          <a:solidFill>
            <a:srgbClr val="37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р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B73-F404-44D5-9B54-5F244A70867C}" type="slidenum">
              <a:t>10</a:t>
            </a:fld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826920" y="1844640"/>
          <a:ext cx="8137800" cy="4680000"/>
        </p:xfrm>
        <a:graphic>
          <a:graphicData uri="http://schemas.openxmlformats.org/drawingml/2006/table">
            <a:tbl>
              <a:tblPr/>
              <a:tblGrid>
                <a:gridCol w="698760"/>
                <a:gridCol w="6432480"/>
                <a:gridCol w="100656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ОО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алион-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»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ЮСБ С.А.Фарма Сектор, Бель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О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фитех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»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АО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хнопарк-Центр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»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АО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армацевтическая фабрика Санкт-Петербург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»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ГУП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ПО «Микроге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» МЗ РФ «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-л «Иммунопрепарат», г.Уфа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63c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О «Брынцалов-А», 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</a:tbl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5614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Наиболее часто в 2007 г. браковалась продукция следующих производителей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(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количество серий)</a:t>
            </a: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:</a:t>
            </a:r>
            <a:endParaRPr b="1" lang="en-US" sz="28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F8A-08E0-453C-A44C-415C6D49A1FC}" type="slidenum">
              <a:t>11</a:t>
            </a:fld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 Gothic"/>
              </a:rPr>
              <a:t>Распределение  недоброкачественных препаратов по лекарственным формам в 2007г  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(количество серий;  %)</a:t>
            </a:r>
            <a:endParaRPr b="1" lang="en-US" sz="24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03280" y="1052640"/>
          <a:ext cx="68803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8803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156360" y="3357720"/>
            <a:ext cx="2808360" cy="8254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летки, капсулы 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5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21,7 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2060640"/>
            <a:ext cx="5545080" cy="45972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йки, сиропы, раство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46 (49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5589720"/>
            <a:ext cx="3313080" cy="73404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ъекционные препараты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7 (14,8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6021360"/>
            <a:ext cx="3313080" cy="73404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меопатические лек. формы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2 (10,4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573360"/>
            <a:ext cx="2448000" cy="45972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ч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9 (7,9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2521080" cy="73404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зи, свечи, масла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 (5,2 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3280" y="5445000"/>
            <a:ext cx="216000" cy="576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763640" y="4869000"/>
            <a:ext cx="216000" cy="360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E09-8241-4D5E-B3F4-2418F62BD66B}" type="slidenum">
              <a:t>12</a:t>
            </a:fld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6000" y="476280"/>
            <a:ext cx="7488360" cy="1297080"/>
          </a:xfrm>
          <a:prstGeom prst="flowChartAlternateProcess">
            <a:avLst/>
          </a:prstGeom>
          <a:gradFill rotWithShape="0">
            <a:gsLst>
              <a:gs pos="0">
                <a:srgbClr val="00cc66"/>
              </a:gs>
              <a:gs pos="100000">
                <a:srgbClr val="00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РОСЗДРАВНАДЗ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ПОВТОР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БОРОЧНОГО КОНТРОЛЯ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2007 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708280"/>
            <a:ext cx="3313080" cy="934920"/>
          </a:xfrm>
          <a:prstGeom prst="flowChartAlternateProcess">
            <a:avLst/>
          </a:prstGeom>
          <a:gradFill rotWithShape="0">
            <a:gsLst>
              <a:gs pos="0">
                <a:srgbClr val="192b15"/>
              </a:gs>
              <a:gs pos="50000">
                <a:srgbClr val="375f2f"/>
              </a:gs>
              <a:gs pos="100000">
                <a:srgbClr val="192b15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70,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КЛАМ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ТАВЩ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4005360"/>
            <a:ext cx="3743280" cy="934920"/>
          </a:xfrm>
          <a:prstGeom prst="flowChartAlternateProcess">
            <a:avLst/>
          </a:prstGeom>
          <a:gradFill rotWithShape="0">
            <a:gsLst>
              <a:gs pos="0">
                <a:srgbClr val="0d170b"/>
              </a:gs>
              <a:gs pos="50000">
                <a:srgbClr val="375f2f"/>
              </a:gs>
              <a:gs pos="100000">
                <a:srgbClr val="0d170b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9,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КЛА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ИЗВОД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5300640"/>
            <a:ext cx="3384720" cy="934920"/>
          </a:xfrm>
          <a:prstGeom prst="flowChartAlternateProcess">
            <a:avLst/>
          </a:prstGeom>
          <a:gradFill rotWithShape="0">
            <a:gsLst>
              <a:gs pos="0">
                <a:srgbClr val="091108"/>
              </a:gs>
              <a:gs pos="50000">
                <a:srgbClr val="375f2f"/>
              </a:gs>
              <a:gs pos="100000">
                <a:srgbClr val="091108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9,3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ШИБКА ЭКСПЕР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1844640"/>
            <a:ext cx="431640" cy="792360"/>
          </a:xfrm>
          <a:prstGeom prst="downArrow">
            <a:avLst>
              <a:gd name="adj1" fmla="val 44120"/>
              <a:gd name="adj2" fmla="val 6389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844640"/>
            <a:ext cx="431640" cy="2089080"/>
          </a:xfrm>
          <a:prstGeom prst="downArrow">
            <a:avLst>
              <a:gd name="adj1" fmla="val 37500"/>
              <a:gd name="adj2" fmla="val 8962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1844640"/>
            <a:ext cx="431640" cy="3384720"/>
          </a:xfrm>
          <a:prstGeom prst="downArrow">
            <a:avLst>
              <a:gd name="adj1" fmla="val 43380"/>
              <a:gd name="adj2" fmla="val 9021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469-9B40-4303-8683-72DB5A329B1D}" type="slidenum">
              <a:t>13</a:t>
            </a:fld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1916280"/>
            <a:ext cx="7488000" cy="2952720"/>
          </a:xfrm>
          <a:prstGeom prst="flowChartAlternateProcess">
            <a:avLst/>
          </a:prstGeom>
          <a:gradFill rotWithShape="0">
            <a:gsLst>
              <a:gs pos="0">
                <a:srgbClr val="ff6600"/>
              </a:gs>
              <a:gs pos="100000">
                <a:srgbClr val="b84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ЛАГОДАРЮ  ЗА  ВНИМАНИЕ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0E9-0406-4C7E-8B2C-756EB230FC4A}" type="slidenum">
              <a:t>14</a:t>
            </a:fld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404640"/>
            <a:ext cx="8209080" cy="1297080"/>
          </a:xfrm>
          <a:prstGeom prst="rect">
            <a:avLst/>
          </a:prstGeom>
          <a:solidFill>
            <a:srgbClr val="996600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Результаты проведения процедуры мониторинга  за 200</a:t>
            </a:r>
            <a:r>
              <a:rPr b="1" lang="en-US" sz="3000" spc="-1" strike="noStrike">
                <a:solidFill>
                  <a:srgbClr val="ffff00"/>
                </a:solidFill>
                <a:latin typeface="Century Gothic"/>
              </a:rPr>
              <a:t>7</a:t>
            </a: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 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3840" y="171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2205000"/>
          <a:ext cx="8352000" cy="1547640"/>
        </p:xfrm>
        <a:graphic>
          <a:graphicData uri="http://schemas.openxmlformats.org/drawingml/2006/table">
            <a:tbl>
              <a:tblPr/>
              <a:tblGrid>
                <a:gridCol w="496908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прошли мониторин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5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парт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75f2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забракова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7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57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ий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f2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39640" y="4005360"/>
            <a:ext cx="8280360" cy="2232000"/>
          </a:xfrm>
          <a:prstGeom prst="rect">
            <a:avLst/>
          </a:prstGeom>
          <a:gradFill rotWithShape="0">
            <a:gsLst>
              <a:gs pos="0">
                <a:srgbClr val="0f2e1e"/>
              </a:gs>
              <a:gs pos="50000">
                <a:srgbClr val="339966"/>
              </a:gs>
              <a:gs pos="100000">
                <a:srgbClr val="0f2e1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6ac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По  информации  Росздравнадзора  об  изъятии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из обращения недоброкачественных лекарственных средств  выявлено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-  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Century Gothic"/>
              </a:rPr>
              <a:t>в 2006г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:  489  наименования;  (1650 серий)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-  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Century Gothic"/>
              </a:rPr>
              <a:t>в 2007г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: 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372  </a:t>
            </a:r>
            <a:r>
              <a:rPr b="1" lang="ru-RU" sz="2400" spc="-1" strike="noStrike">
                <a:solidFill>
                  <a:srgbClr val="ffff99"/>
                </a:solidFill>
                <a:latin typeface="Century Gothic"/>
              </a:rPr>
              <a:t>наименования;  (1212 сер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0EA-982C-495E-A757-ADC508E947E0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Структура забракованных ЛС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в Республике Татарстан в 200</a:t>
            </a: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7</a:t>
            </a: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 г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Century Gothic"/>
              </a:rPr>
              <a:t>по производителям</a:t>
            </a:r>
            <a:endParaRPr b="1" lang="en-US" sz="28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7640" y="2193840"/>
          <a:ext cx="655344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193840"/>
                    <a:ext cx="65534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5160" y="4076640"/>
            <a:ext cx="4422600" cy="101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Заруб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производители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6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19320" y="2565360"/>
            <a:ext cx="4395240" cy="101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Отече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производители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1680" y="1773360"/>
            <a:ext cx="3402720" cy="101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Произв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5f2f"/>
                </a:solidFill>
                <a:latin typeface="Arial"/>
              </a:rPr>
              <a:t>стран СНГ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3DB-45EC-40FA-8087-10DA25A8FD97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16880" cy="1800000"/>
          </a:xfrm>
          <a:prstGeom prst="rect">
            <a:avLst/>
          </a:prstGeom>
          <a:gradFill rotWithShape="0">
            <a:gsLst>
              <a:gs pos="0">
                <a:srgbClr val="5c2500"/>
              </a:gs>
              <a:gs pos="50000">
                <a:srgbClr val="ff6600"/>
              </a:gs>
              <a:gs pos="100000">
                <a:srgbClr val="5c25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Впервые выявленные и подтвержденные факты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фальсификации на территории Республики Татарстан в 2007г.:</a:t>
            </a:r>
            <a:endParaRPr b="1" lang="en-US" sz="28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7634160" cy="190008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ac66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Химотрипсин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лиофилизат для приготовления раствора 10 мг №10</a:t>
            </a:r>
            <a:r>
              <a:rPr b="1" lang="ru-RU" sz="2800" spc="-1" strike="noStrike">
                <a:solidFill>
                  <a:srgbClr val="9933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entury Gothic"/>
              </a:rPr>
              <a:t>производство ООО «Самсон-Мед», Россия, поставщик ЗАО ЦВ «Протек-10» г.Каза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4437000"/>
            <a:ext cx="7343640" cy="2087640"/>
          </a:xfrm>
          <a:prstGeom prst="rect">
            <a:avLst/>
          </a:prstGeom>
          <a:gradFill rotWithShape="0">
            <a:gsLst>
              <a:gs pos="0">
                <a:srgbClr val="9a9a5c"/>
              </a:gs>
              <a:gs pos="50000">
                <a:srgbClr val="ffff99"/>
              </a:gs>
              <a:gs pos="100000">
                <a:srgbClr val="9a9a5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о-шпа  раствор  для инъекций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20 мг/мл  2мл  №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entury Gothic"/>
              </a:rPr>
              <a:t>производство «Хиноин», Венгр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Century Gothic"/>
              </a:rPr>
              <a:t>поставщик  ООО «Медиф» г.Каза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FEE-E5FD-4D30-84F0-BA3FE7BAF1EB}" type="slidenum">
              <a:t>4</a:t>
            </a:fld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29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entury Gothic"/>
              </a:rPr>
              <a:t>Динамика выявления лекарственных средств, оригинальность которых требует подтверждения</a:t>
            </a:r>
            <a:endParaRPr b="1" lang="en-US" sz="24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25360"/>
          <a:ext cx="91440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F32-E041-4154-9CA8-27C6730958BD}" type="slidenum">
              <a:t>5</a:t>
            </a:fld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5694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Структура ЛС,  дальнейшая  реализация  которых запрещена  до  подтверждения  оригинальности препарата  в 2007 г  по  производителям</a:t>
            </a:r>
            <a:endParaRPr b="1" lang="en-US" sz="24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11280" y="2193840"/>
          <a:ext cx="6553440" cy="46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193840"/>
                    <a:ext cx="65534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096800" y="4869000"/>
            <a:ext cx="5076360" cy="1078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Зарубеж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оизводител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7,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50120" y="2133720"/>
            <a:ext cx="4818600" cy="1048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ече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изводители –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,5</a:t>
            </a:r>
            <a:r>
              <a:rPr b="1" lang="en-US" sz="3200" spc="-1" strike="noStrike">
                <a:solidFill>
                  <a:srgbClr val="375f2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82B-F199-4C49-8308-7393BB516A8B}" type="slidenum">
              <a:t>6</a:t>
            </a:fld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Распределение препаратов, дальнейшая реализация которых запрещена до подтверждения оригинальности препарата в 2007 г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Century Gothic"/>
              </a:rPr>
              <a:t>по фармакологическим группам </a:t>
            </a: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 (%)</a:t>
            </a:r>
            <a:endParaRPr b="1" lang="en-US" sz="2400" spc="-1" strike="noStrike">
              <a:solidFill>
                <a:srgbClr val="d1efb3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79640" y="1427040"/>
          <a:ext cx="6880320" cy="54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27040"/>
                    <a:ext cx="688032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533200" y="5661000"/>
            <a:ext cx="295776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нтибиотики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8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3284640"/>
            <a:ext cx="266400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рдечно-сосуд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78280" y="6308640"/>
            <a:ext cx="332532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нтигистаминные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3400" y="1844640"/>
            <a:ext cx="3052440" cy="73656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Остальные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781360"/>
            <a:ext cx="1871640" cy="1190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р-ва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еч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имптомов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студы и ОРЗ –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,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989000"/>
            <a:ext cx="259236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пазмолитич.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14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565360"/>
            <a:ext cx="230364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Ноотропные –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292640"/>
            <a:ext cx="305928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Гепатопротекторы –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6308640"/>
            <a:ext cx="260208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Гормональные –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5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5950080"/>
            <a:ext cx="360360" cy="358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35280" y="5734080"/>
            <a:ext cx="216000" cy="574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5950080"/>
            <a:ext cx="252252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Диуретические –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373720"/>
            <a:ext cx="223344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отивоязв.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797360"/>
            <a:ext cx="252252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Пищ.ферменты –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21000"/>
            <a:ext cx="2340000" cy="39888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нальгетики –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00000" y="5373720"/>
            <a:ext cx="57636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08000" y="3787920"/>
            <a:ext cx="503280" cy="1440"/>
          </a:xfrm>
          <a:prstGeom prst="line">
            <a:avLst/>
          </a:prstGeom>
          <a:ln w="25560">
            <a:solidFill>
              <a:srgbClr val="37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11280" y="5300640"/>
            <a:ext cx="432000" cy="43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D4E-1EFE-449D-99D9-EBFE086C0D37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89000"/>
            <a:ext cx="8209080" cy="155700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рганизации, не предоставлявшие информацию об изъятии недоброкачественных лекарственных средств на территории РТ согласно уведомлений ГУ «ЦККиСЛС РТ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989000"/>
            <a:ext cx="6769080" cy="164412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50000">
                <a:srgbClr val="9900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Вита Лайн ООО (г.Самар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Дана-фарм (г.Казань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Рапакс ООО (г.Казань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Резон+ ООО (г.Казань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789360"/>
            <a:ext cx="8209080" cy="825480"/>
          </a:xfrm>
          <a:prstGeom prst="rect">
            <a:avLst/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предоставлявшие информацию об изъятии нерегуляр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4797360"/>
            <a:ext cx="6769080" cy="16441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Аконит МФФ ООО (г.С-Пб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Аптека-Холдинг ЗАО Казанский ф-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Бизон ООО (Высокогорский р-н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Century Gothic"/>
              </a:rPr>
              <a:t>Реалекс ООО (г.Казань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081-BD91-4D88-9826-0DF02DAF02F7}" type="slidenum">
              <a:t>8</a:t>
            </a:fld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95280" y="1341360"/>
          <a:ext cx="8410680" cy="5256360"/>
        </p:xfrm>
        <a:graphic>
          <a:graphicData uri="http://schemas.openxmlformats.org/drawingml/2006/table">
            <a:tbl>
              <a:tblPr/>
              <a:tblGrid>
                <a:gridCol w="496800"/>
                <a:gridCol w="7064640"/>
                <a:gridCol w="8492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ичество испытаний   для проведения сертифи- кации и декларирования в системе ГОСТ 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3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в рамках государственного выборочного контр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в рамках производственного контроля лекарственных средств аптечного изготовления / воды очищен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/6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спирта этилов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субстанц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по обращениям правоохранительных орга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по направлениям отдела мониторин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3f0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99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- лекарственных средств, требующих подтверждения качества согласно писем Росздравнадз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5f2f"/>
                    </a:solidFill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Количество испытаний ЛС, проведенных  в 2007г. испытательной лабораторией ГУ «ЦКК и СЛС РТ»:</a:t>
            </a:r>
            <a:endParaRPr b="1" lang="en-US" sz="26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4AA-AE4F-4F22-B756-A7D7901A6BF1}" type="slidenum">
              <a:t>9</a:t>
            </a:fld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0:00:41Z</dcterms:created>
  <dc:creator>Oleg</dc:creator>
  <dc:description/>
  <dc:language>en-US</dc:language>
  <cp:lastModifiedBy>Elena</cp:lastModifiedBy>
  <dcterms:modified xsi:type="dcterms:W3CDTF">2008-03-17T13:25:59Z</dcterms:modified>
  <cp:revision>215</cp:revision>
  <dc:subject/>
  <dc:title>Государственное учреждение «Центр контроля качества и сертификации лекарственных средств Республики Татарстан»</dc:title>
</cp:coreProperties>
</file>